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355-E7ED-43AA-894B-7176BE8A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95E-86B6-4180-9750-7E46C609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A2F-2341-4F63-829B-66393008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466-2B08-4DBB-B0AA-DD9F8EDA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B2AE-1A28-4E7E-8666-10E1D5EC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2FF1-C021-4DD3-B0FF-EAFEA151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C3F8-A3AE-42D3-A0B3-DA389693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1C15-00B0-40AC-A9E5-17484E2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626-5939-4E23-B0E8-93C9EC95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CCE7-36E1-4C02-B8D3-0D99FA82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FCE1-11FA-4057-B085-96B1519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F9C-49EC-4996-BBDB-BC0D5B68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2E5-5202-4C7E-868B-630A48C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A239-E14A-4BEA-B5F0-E416D6E1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B7BA-0B87-40AF-B94A-710AD6DF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A36B-1BAD-4CB4-9C92-426FB54E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9A6A-1131-485D-AB3D-B315B955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4D9-935E-477B-82C9-B4599E4D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E3A-27C3-4F91-B23B-6926C079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1EE-6AA0-45C1-8170-FD14FFBF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EB6-4E6A-4662-9417-6F94D942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AD2-DD20-49CC-BB4B-1BAC19EA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40A-1D34-4344-A76D-CB2424E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7C7-98BE-4F0B-86E0-B756CAB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1B3D-8E76-44EF-8A42-2952B47D2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06C2-61D3-4611-90E1-EE48E57A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47640" y="1587600"/>
            <a:ext cx="6193080" cy="36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Arte </a:t>
            </a:r>
            <a:endParaRPr b="0" i="1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del</a:t>
            </a:r>
            <a:endParaRPr b="0" i="1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Realismo</a:t>
            </a:r>
            <a:endParaRPr b="0" i="1" lang="en-US" sz="80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tiana Zurita Pé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Arroyo en Brèm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39264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 mujer de la ol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0956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El mar tormentos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39272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800"/>
            </a:br>
            <a:br>
              <a:rPr sz="6800"/>
            </a:br>
            <a:r>
              <a:rPr b="1" lang="en-US" sz="6800" spc="-1" strike="noStrike">
                <a:solidFill>
                  <a:srgbClr val="97cdcc"/>
                </a:solidFill>
                <a:latin typeface="Script MT Bold"/>
              </a:rPr>
              <a:t>  </a:t>
            </a:r>
            <a:br>
              <a:rPr sz="6800"/>
            </a:br>
            <a:endParaRPr b="0" lang="en-US" sz="6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11280" y="2637000"/>
            <a:ext cx="4104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33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cript MT Bold"/>
              </a:rPr>
              <a:t>Courbet</a:t>
            </a:r>
            <a:endParaRPr b="0" i="1" lang="en-US" sz="6600" spc="1" strike="noStrike">
              <a:ln w="9360">
                <a:solidFill>
                  <a:srgbClr val="99cc00"/>
                </a:solidFill>
                <a:miter/>
              </a:ln>
              <a:solidFill>
                <a:srgbClr val="33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888000" cy="28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7650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Script MT Bold"/>
              </a:rPr>
              <a:t>Autorretr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Script MT Bold"/>
              </a:rPr>
              <a:t>                 </a:t>
            </a:r>
            <a:r>
              <a:rPr b="0" lang="en-US" sz="2100" spc="-1" strike="noStrike">
                <a:solidFill>
                  <a:srgbClr val="336666"/>
                </a:solidFill>
                <a:latin typeface="Script MT Bold"/>
              </a:rPr>
              <a:t>Los campesinos de Flagey</a:t>
            </a:r>
            <a:br>
              <a:rPr sz="2100"/>
            </a:br>
            <a:r>
              <a:rPr b="0" lang="en-US" sz="2100" spc="-1" strike="noStrike">
                <a:solidFill>
                  <a:srgbClr val="336666"/>
                </a:solidFill>
                <a:latin typeface="Script MT Bold"/>
              </a:rPr>
              <a:t>                      volviendo de la feria</a:t>
            </a:r>
            <a:endParaRPr b="0" lang="en-US" sz="2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59100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 fuent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3051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s cribadoras de trig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El taller del pinto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010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      </a:t>
            </a: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Las bañista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15108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Script MT Bold"/>
              </a:rPr>
              <a:t>El sueño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132600" cy="412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1:51:28Z</dcterms:created>
  <dc:creator>Pc 5</dc:creator>
  <dc:description/>
  <dc:language>en-US</dc:language>
  <cp:lastModifiedBy>Pc 5</cp:lastModifiedBy>
  <dcterms:modified xsi:type="dcterms:W3CDTF">2008-12-18T12:37:43Z</dcterms:modified>
  <cp:revision>2</cp:revision>
  <dc:subject/>
  <dc:title> Realismo …    Courbet</dc:title>
</cp:coreProperties>
</file>